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jeop.wav" ContentType="audio/x-wav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498-D218-4139-96A7-8D0C7A96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AA6-5C73-4D2A-A40A-E5EE914D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64E-2222-41C4-B233-06AF8AF9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1A9-5DB8-49DD-973C-85EEDFAD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1E95-F2A6-4D57-AE7D-07C75649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5367-BF16-483C-8016-32B3C19E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7D8B-0270-46BF-A273-0B31C201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00BA-189B-45E7-A22E-4B1B63FF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B5B1-E437-495C-B031-0C609AF9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B159-1853-4D54-B729-155EC143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CE8D-83CB-44BF-8F13-9CA6E085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C53-986A-43EF-92A0-9B38E207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8167-9FD3-4FEA-8908-E68BD5DA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8CE9-E8DB-4706-9027-6B9D03E0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975F-7B09-43DE-944B-B69AE350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4F11-4D14-4797-83D0-7575D0F1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3A79-F091-4183-8AF3-062781AB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D51-8F03-4756-81C0-E23A32D3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1DD-68EF-4B21-A4AA-AAA3100F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40A-1625-4F21-B353-D0C0AC16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E88-167B-425B-9F7F-EA7CC1D5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30B-E61E-410A-9686-616F7399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CFB-416B-4046-88F6-5E81E287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E19-D82B-4E05-BF62-27FE63DE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C042-25D0-4804-9BA6-6B3E2BF33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EF66-70D3-402E-B1F1-D5CF72FE9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image" Target="../media/image2.jpeg"/><Relationship Id="rId29" Type="http://schemas.openxmlformats.org/officeDocument/2006/relationships/image" Target="../media/image3.pn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6.jpeg"/><Relationship Id="rId33" Type="http://schemas.openxmlformats.org/officeDocument/2006/relationships/audio" Target="../media/jeop.wav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8"/>
          <a:stretch/>
        </p:blipFill>
        <p:spPr>
          <a:xfrm>
            <a:off x="83808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9"/>
          <a:stretch/>
        </p:blipFill>
        <p:spPr>
          <a:xfrm>
            <a:off x="236232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0"/>
          <a:stretch/>
        </p:blipFill>
        <p:spPr>
          <a:xfrm>
            <a:off x="388620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1"/>
          <a:stretch/>
        </p:blipFill>
        <p:spPr>
          <a:xfrm>
            <a:off x="541008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2"/>
          <a:stretch/>
        </p:blipFill>
        <p:spPr>
          <a:xfrm>
            <a:off x="6934320" y="1143000"/>
            <a:ext cx="152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93960" y="3168720"/>
            <a:ext cx="55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piece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42040" y="1752480"/>
            <a:ext cx="68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d Chiarascu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pective brings focus into Chr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ed into 4 group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tures the scene after Christ say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one will decieve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dividual Emo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92160" y="316872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92160" y="3168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helange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894680" y="3168720"/>
            <a:ext cx="55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01-15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93960" y="3168720"/>
            <a:ext cx="46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tim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91800" y="316872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Renaiss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2860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251460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 about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89280" y="3168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228600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de from Marble Scra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nds and Feet are Enlarg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Greco-Roman nude sty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n Tense before batt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891080" y="31687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one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894680" y="3168720"/>
            <a:ext cx="55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7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94320" y="316872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91440" y="316872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ner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892160" y="3168720"/>
            <a:ext cx="585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was Veronese put on tr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inquisition cour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92520" y="3168720"/>
            <a:ext cx="58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painting a last supper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s and clow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92160" y="316872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onardo da Vinc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893600" y="3168720"/>
            <a:ext cx="469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piece typi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manneris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92160" y="3168720"/>
            <a:ext cx="444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central foc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biguous sp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mary color harmo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91440" y="316872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nzi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89324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4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893240" y="31687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commiss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91440" y="3168720"/>
            <a:ext cx="650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imo I, Grand Duke of Tusc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94320" y="316872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91440" y="316872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ner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93240" y="3168720"/>
            <a:ext cx="60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what years was it comple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94680" y="3168720"/>
            <a:ext cx="68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 about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893600" y="3168720"/>
            <a:ext cx="606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tensive use of Alleg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e given to the hands and f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dely differing interpre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892160" y="3168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helange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94320" y="316872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this piece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93600" y="3168720"/>
            <a:ext cx="53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stine Chapel, Vatican 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95040" y="3168720"/>
            <a:ext cx="60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dates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34-154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894320" y="316872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91440" y="316872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ner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495-149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93240" y="31687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commiss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2320" y="1523880"/>
            <a:ext cx="912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pe Paul III as part of the counter-re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ther Facts: Fres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central focal po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 is the stern ju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mned descend, Just asc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urtured, twisted bodies, typical of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helange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93240" y="3168720"/>
            <a:ext cx="52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91800" y="316872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Renaiss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90720" y="31687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s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sylvanuse</cp:lastModifiedBy>
  <dcterms:modified xsi:type="dcterms:W3CDTF">2007-05-09T11:44:03Z</dcterms:modified>
  <cp:revision>17</cp:revision>
  <dc:subject/>
  <dc:title>Jeopardy</dc:title>
</cp:coreProperties>
</file>